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513-1159-45F5-AC2A-3D12ED24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B50-5F81-4065-9404-9BEF06F8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461-CDB0-47DA-90DE-4FCDF098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E80-B51F-4115-9A4D-8665F6B5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BD7F-D895-4765-88A0-40DD089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83B-9AB6-40BC-B504-6D07AC1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1831-91A8-462F-8189-244776A2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C45-2F1B-4F18-A804-F4B1751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5C1A-095E-4EB6-8F43-78EE3DA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AC4-CE7E-4A03-8BA5-3ECEF440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6B0-3D28-4644-AF93-117F927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B03-5BC8-45E1-9051-73C6645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5B3-D1E0-497B-B466-F222E48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2A8B-5F90-4EDB-AB79-26B5066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2E0-25E5-4670-9B00-D413C5C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354-24D3-45B0-A15B-5F12BB06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B84-3C50-48A4-83DE-ABC8C26F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267-48E8-4331-BF8C-EC4CCF2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34C-8012-45E6-B2D5-8130CF29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A39-54FB-4EAC-B554-E83FD41D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A25-E98E-4838-A341-B96F6D8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B77-8CED-4ECB-A909-985AD29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374-95A4-4D1C-854A-90E18BF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FAD-061C-45EA-9B38-309B773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33A-2718-4E41-A78D-E905D83593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536-C546-4E0B-AAD5-2E2128C920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ago puede ser programado y a la hora que quiera la empr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roveedor podrá ver el detalle de las facturas, que se le esta pagando electrónicamente, en la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ueden emitirse cheques de CAJ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puede acreditar a una cuenta especific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INALIZA EL ROL DEL USUARIO OPERADOR, CONTINUA EL SUPERVISOR PARA VERIFICAR QUE TODO EL LOTE ESTA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7204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4114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733920" cy="495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33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66880"/>
            <a:ext cx="7620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INALIZA EL ROL DEL USUARIO SUPERVISOR, CONTINUA EL ENVIADOR  PARA EMITIR LOS CHEQUES EN BANCO Y ACREDITAR EN LAS CUENTAS RESP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17204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933640" cy="113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617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4267080"/>
            <a:ext cx="48006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172040" cy="2533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800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05320" y="190512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ANCO INDUSTRIAL, S.A.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EL FUTURO HOY PARA TODOS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954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FIN DE LA PRESENTAC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4495680" cy="14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0" y="1828800"/>
            <a:ext cx="1609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rchivo delimitado por comas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99 identificador de cheque de caja o voucher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éditos a números de cuen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662940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38920" y="1905120"/>
            <a:ext cx="23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21:33Z</dcterms:created>
  <dc:creator>OTTO GARRIDO</dc:creator>
  <dc:description/>
  <dc:language>en-US</dc:language>
  <cp:lastModifiedBy>ogarrido</cp:lastModifiedBy>
  <dcterms:modified xsi:type="dcterms:W3CDTF">2005-07-12T23:37:10Z</dcterms:modified>
  <cp:revision>8</cp:revision>
  <dc:subject/>
  <dc:title>PAGO DE PROVEEDORES BI-B@NKING</dc:title>
</cp:coreProperties>
</file>